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396-A7AA-4218-B63B-51D94F5A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2ED-B108-4A06-BEE1-BFCB59A4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F82-4D55-443F-8071-55FF5515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2F8-0240-4CBF-8E61-51694A13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E7F-B25D-4BB9-82E6-19086F10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1D4-619C-412F-AE33-63B3287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B19-24C4-4CAE-AB58-A8E7F59D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FA2-FADE-446B-A75E-1A60638C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745-26A4-42F0-A998-7A6C96B3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800-012E-43A5-8DD2-EACC08A9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714-8270-48C7-9215-73776127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EB4-B1FD-4EFE-87D9-A685944E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B776-2314-4D4F-A08B-91E6DACF2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ingd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 fungus among 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6858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oes everyone like mushroo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are such fun guy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52280" y="47242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Cj01411110000[1]"/>
          <p:cNvPicPr/>
          <p:nvPr/>
        </p:nvPicPr>
        <p:blipFill>
          <a:blip r:embed="rId1"/>
          <a:stretch/>
        </p:blipFill>
        <p:spPr>
          <a:xfrm>
            <a:off x="6019920" y="1371600"/>
            <a:ext cx="2620800" cy="2940120"/>
          </a:xfrm>
          <a:prstGeom prst="rect">
            <a:avLst/>
          </a:prstGeom>
          <a:ln w="0">
            <a:noFill/>
          </a:ln>
        </p:spPr>
      </p:pic>
      <p:pic>
        <p:nvPicPr>
          <p:cNvPr id="66" name="MSj03886080000[1].wav" descr=""/>
          <p:cNvPicPr/>
          <p:nvPr/>
        </p:nvPicPr>
        <p:blipFill>
          <a:blip r:embed="rId2"/>
          <a:stretch/>
        </p:blipFill>
        <p:spPr>
          <a:xfrm>
            <a:off x="6094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355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c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la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y get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495320" y="609480"/>
            <a:ext cx="40388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(except y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it (heterotrop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609120"/>
            <a:ext cx="4038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hro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d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hen (with alg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ff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04920" y="4191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32004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ushroom"/>
          <p:cNvPicPr/>
          <p:nvPr/>
        </p:nvPicPr>
        <p:blipFill>
          <a:blip r:embed="rId1"/>
          <a:stretch/>
        </p:blipFill>
        <p:spPr>
          <a:xfrm>
            <a:off x="0" y="0"/>
            <a:ext cx="9144000" cy="8367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04920" y="47242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sh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yeast"/>
          <p:cNvPicPr/>
          <p:nvPr/>
        </p:nvPicPr>
        <p:blipFill>
          <a:blip r:embed="rId1"/>
          <a:stretch/>
        </p:blipFill>
        <p:spPr>
          <a:xfrm>
            <a:off x="0" y="0"/>
            <a:ext cx="9144000" cy="8229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57200" y="5335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mold"/>
          <p:cNvPicPr/>
          <p:nvPr/>
        </p:nvPicPr>
        <p:blipFill>
          <a:blip r:embed="rId1"/>
          <a:stretch/>
        </p:blipFill>
        <p:spPr>
          <a:xfrm>
            <a:off x="0" y="0"/>
            <a:ext cx="9144000" cy="8994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457200" y="5335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oneysuckle_mildew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990720" y="7621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ld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ichen-3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2767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c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Truffles_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80880" y="3049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uff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13:53Z</dcterms:created>
  <dc:creator>Jean Kavanagh</dc:creator>
  <dc:description/>
  <dc:language>en-US</dc:language>
  <cp:lastModifiedBy>Jean Kavanagh</cp:lastModifiedBy>
  <dcterms:modified xsi:type="dcterms:W3CDTF">2010-05-05T18:45:22Z</dcterms:modified>
  <cp:revision>11</cp:revision>
  <dc:subject/>
  <dc:title>Kingdom Fungi</dc:title>
</cp:coreProperties>
</file>